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22E-AC16-4E89-B6AD-764FC228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3E1-EFEC-4E9E-8E5E-06457B14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0DCF-B9AC-43C8-8B8C-367FFB75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CCC-527E-4AC7-A1DC-C01B745F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DEC4-E716-49DB-AED1-0FC11F7B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41E4-462A-4ED1-8FA7-E0F5D0E1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368-DD6D-4EC1-A1DB-9A70F16E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217-908F-42EC-86D4-96E88547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7AE3-DC9C-421B-9734-D864FFEC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B44-107C-4262-B26A-2F831A79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526-B716-42E5-8BED-70CD1944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8C4-EA03-4B8A-8DB2-0B637D97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B6A6-762F-40AF-93D5-3BA9C0E8CC4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1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00040" y="1424160"/>
            <a:ext cx="7929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υναμ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ρι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ρχιερε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βασιλε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ολε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γνωσ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800520" y="22496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3786120" y="42670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3786120" y="47894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2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14200" y="1643040"/>
            <a:ext cx="5072040" cy="33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ερευ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στασι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μματευ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ι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5929200" y="25146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ερ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5929200" y="317016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στασεω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5929200" y="38052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γραμματευ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929200" y="444348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2 CONTRACTING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500040" y="1424160"/>
            <a:ext cx="792972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ελ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ελ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κοτ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σθεν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ὀρ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τ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800520" y="22496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3786120" y="377028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Plural Masculin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emi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3786120" y="47991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3786120" y="52833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214200" y="1643040"/>
            <a:ext cx="5286600" cy="33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ληθο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σθενη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. 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κευο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θνος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5929200" y="25146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ληθ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5929200" y="317016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σθεν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929200" y="38052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κευ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929200" y="444348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θνε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4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2 CONTRACTING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5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42920" y="1285920"/>
            <a:ext cx="492912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αγαγε εἰς τα ἐθν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εινῳ τῳ ἐτει ὁ βασιλευς ἀπεθαν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γραμματεις εἰπον κατα του Ἰη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ετρος οὐ προσεχει τῳ ἀρχιερ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ἀληθεις μαθηται εἰσιν ἐν τῃ πολ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α πιστεως ἐχομεν ἐλπιδα δοξη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5054760" y="20304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part to the Gent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045040" y="25416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at year the king d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054760" y="30481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cribes spoke against Je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5045040" y="356076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ter does not pay attention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high pri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5057640" y="458640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true disciples are in the 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5057640" y="5089680"/>
            <a:ext cx="41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faith we have hope of gl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67360" y="6278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6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142920" y="1214280"/>
            <a:ext cx="492912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χω μερος της βασιλει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ζητων την ἀληθειαν και δυναμ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αμβαν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king’s father spoke to the high pri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cause of his mercy God rescues 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5054760" y="19591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have a share of the king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045040" y="247032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one who seeks truth also receives p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5054760" y="347508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ατηρ του βασιλεως εἰπεν τῳ ἀρχιερε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072040" y="448632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ια το ἐλεος αὐτου ὁ θεος ῥυεται ἡμα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5072040" y="528624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τε περιεπατουμεν ὑπο κρισ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142920" y="5180040"/>
            <a:ext cx="4572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nce we lived under jud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aith found its true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072040" y="578484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(ἡ) πιστις εὑρεν το ἀληθες τελος αὐτη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00040" y="1424160"/>
            <a:ext cx="792972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σα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ντ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ντ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3800520" y="22496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 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inine 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3786120" y="325584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euter 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minine 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3786120" y="427212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uter Nomina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3786120" y="52941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ulin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euter 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142920" y="1604880"/>
            <a:ext cx="4500360" cy="46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ντες οἱ πατερες ἀπεθ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ξω το εὐαγγελιον ἐ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σιν τοις ἐθνε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ς ἐθαυμασεν δια παντα ἁ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οι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σωτηρ παντων προσευχε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4586400" y="23432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the fathers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4572000" y="2771640"/>
            <a:ext cx="42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ill preach the good news in all the 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4572000" y="357192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veryone was amazed because of all the things which he was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572000" y="48290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aviour of all is pra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Practice 9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241200" y="2746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3.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500040" y="1609560"/>
            <a:ext cx="492912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δεις ἐστιν ἀγαθ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δον μιαν πολ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χ εὑρες οὐδ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τε μηδεν μηδεν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πεν ὁτι ἐστιν εἱς κυριος και μια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κλησι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χω ἑν προβατο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5054760" y="20304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no one g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5045040" y="25416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/they saw one 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5054760" y="30481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dn’t you find anyth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5045040" y="356076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y nothing to anyone (l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hing to nobody’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5057640" y="4586400"/>
            <a:ext cx="41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said that there was one Lord and one chu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5057640" y="559260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have one she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39400" y="1268280"/>
            <a:ext cx="27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21:39:49Z</dcterms:created>
  <dc:creator>Sarah</dc:creator>
  <dc:description/>
  <dc:language>en-US</dc:language>
  <cp:lastModifiedBy>Sarah</cp:lastModifiedBy>
  <dcterms:modified xsi:type="dcterms:W3CDTF">2009-03-03T21:51:01Z</dcterms:modified>
  <cp:revision>31</cp:revision>
  <dc:subject/>
  <dc:title>Slide 1</dc:title>
</cp:coreProperties>
</file>